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A86-73D3-4509-BAD5-1A744EEF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97E-CE08-4711-8B3F-C5FDFA1C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56F-CA3A-4719-97FA-6F5AD4B1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C15-6469-48EC-98D1-52BEA481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E8E5-85CC-45FC-B04C-7FCA022C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5233-61F4-459F-85D7-CCEA35C2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5549-F698-4293-A717-119A4880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9787-F795-4BDD-B09F-74CC310C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5346-26C4-4B8E-A8D8-664E5C2A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F58B-AE5C-48F2-B589-ABE05198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80E2-5391-4AD0-8E6A-21A61308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109-11B6-4750-914B-405AD238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0F71-FBFE-433F-8CC2-FCEC41B8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570B-F27C-42E4-907E-9C559486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27E6-6021-42DD-B49F-1BD91390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F38C-2285-422F-8D20-84276066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D426-7491-4903-8AB4-DF3D50BC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A6B-9E8C-4C62-BFA7-DAC3141E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582-79D0-45EB-A233-02A760B7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6DD-83F6-44BC-8EEB-C22002D4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4BF-5834-48C5-8A9A-0DE6DA89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ED3-F755-4FC8-AB9E-317F4D62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6F4-6092-4968-9201-7B9F49C5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CF2-E36A-4916-983B-85CF8809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74DB-6681-445F-885F-487CC7FE78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0D7-DBB0-4837-A6E8-39BF8FB91DC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460872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ª Reunião de Análise da Estratégi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15.02.2019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U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EJERN 2016-2020 (Res 24/2015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lano de Gestão 2018-202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elatório de Gestão 2018 TC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AEs realizadas em 201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iretrizes e Orientações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76176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ssão – Visão de Futuro  Cadeia de Valo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m Somos? Missão e Val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de queremos chegar? Visão e Objetivos estraté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chegaremos? PEJERN 2016-2020 + Plano de Gestão 2018-20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102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retrizes e Orient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avaliação do Planejamento Estratégico do TRE/R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lteração na Cadeia de Valor da Justiça Eleitoral do RN - 2018 (Portaria nº 179/2018, 03.08.2018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mplantar a metodologia das Reuniões de Análise da Estratégia (RAE) – art. 11 da Res. TRE/RN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onitorar as reuniões periódicas das unidades administrativas, por meio dos planos institucionais de níveis tático e operacional, a partir das atas das respectivas reuniões das Unida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atório de Gestão 2018 do TRE/RN, com data limite de apresentação junto ao TCU, em 30.04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estrutura indicada será apresentada em reunião, no dia 19.02.2019, junto a comissão constituída, por meio da Portaria nº 50/2019-GP, de 08.02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o Justiça em Números – Grupo de Trabalho constituído, por meio da Portaria nº 57-GP, de 15.02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nálise das ações/projetos do Plano de Gestão 2018-2020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dicadores de Apoio do PEJER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ª Reunião do Ranking da Transparênc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finir pendências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Novo formato de acompanhamento (inclusão de periodicidade de análise)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lustrar sugestões de alterações ou incrementos, a partir de trabalho iniciado na ASPLAN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lher as indicações de servidores para evento de capacitação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car nova data de reunião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12:26:42Z</dcterms:created>
  <dc:creator>Hermann Dória</dc:creator>
  <dc:description/>
  <dc:language>en-US</dc:language>
  <cp:lastModifiedBy>001197221635</cp:lastModifiedBy>
  <dcterms:modified xsi:type="dcterms:W3CDTF">2019-02-15T11:44:44Z</dcterms:modified>
  <cp:revision>16</cp:revision>
  <dc:subject/>
  <dc:title>Plano de Contratações - 2016</dc:title>
</cp:coreProperties>
</file>